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0670-4B46-4484-9DD5-F5A0A325393B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**Analogy: Molecular Sie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295D-FC1A-43DA-B251-31F18B49EEA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DNA is negatively charg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Molar mass of each nucleotide is relatively consist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Therefore same charge-to-mass rat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Only difference between DNA fragments is the different lengths (number of nucleotid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A4B9-E663-49A5-9263-5EA39C9F03F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Therefore the shorter the fragment the faster it will travel because it can navigate through the pores of the gel more easily than a large fragment can. Analogy: Running through a forest – larger group takes longer to get through the trees compared to an individu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Well = depression at the ends of the gel; Gel = a square or rectangular slab consists of a buffer containing electrolytes and agarose (perhaps polyacrylamide) Loading dye allows for visualization of the DNA solution – Glycerol: sinks DNA to bottom of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282D-882B-4BD5-AACF-ED171B3F42C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Buffer solution containing electroly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Electrolyte solution conveys the current through the g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Shorter fragments will arrive at the positive end faster than the longer ends – thus separation is achiev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Small fragments are visualized viewer is able to see when the fragments arrive at the other end of the g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C57F-A27E-4438-903F-0428BA5F040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10. Molecular marker goes through same process as the DNA fragments and then is plotted (known sizes) on a graph along with the distance travelled from the wells. Size is determined through the interpolation of the grap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2496-CF87-4E7B-925B-9CFA3F4E06E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white rectangle.png"/>
          <p:cNvPicPr/>
          <p:nvPr/>
        </p:nvPicPr>
        <p:blipFill>
          <a:blip r:embed="rId3"/>
          <a:srcRect l="0" t="0" r="0" b="10454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wiziq.com/tutorial/22367-Gel-Electrophoresis-Animation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Title 1" descr=""/>
          <p:cNvPicPr/>
          <p:nvPr/>
        </p:nvPicPr>
        <p:blipFill>
          <a:blip r:embed="rId1"/>
          <a:stretch/>
        </p:blipFill>
        <p:spPr>
          <a:xfrm>
            <a:off x="676440" y="1944720"/>
            <a:ext cx="7785000" cy="1517760"/>
          </a:xfrm>
          <a:prstGeom prst="rect">
            <a:avLst/>
          </a:prstGeom>
          <a:ln w="0">
            <a:noFill/>
          </a:ln>
        </p:spPr>
      </p:pic>
      <p:sp>
        <p:nvSpPr>
          <p:cNvPr id="161" name="Subtitle 2"/>
          <p:cNvSpPr/>
          <p:nvPr/>
        </p:nvSpPr>
        <p:spPr>
          <a:xfrm>
            <a:off x="1403280" y="357336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bri"/>
              </a:rPr>
              <a:t>Biology Technology Projec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5543640" y="64882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By: Rabeea Fatima and Arlanna Pug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Calibri"/>
              </a:rPr>
              <a:t>Main Purpose</a:t>
            </a: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: A method used to sort DNA strands/fragments by length. Also used for other molecule types such as protein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Calibri"/>
              </a:rPr>
              <a:t>Materials Used</a:t>
            </a: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: Buffer solution, Gel, Power supply, Positive and negative electrod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Picture 5" descr="eleczone.gif"/>
          <p:cNvPicPr/>
          <p:nvPr/>
        </p:nvPicPr>
        <p:blipFill>
          <a:blip r:embed="rId2"/>
          <a:stretch/>
        </p:blipFill>
        <p:spPr>
          <a:xfrm>
            <a:off x="2676600" y="4054320"/>
            <a:ext cx="3327480" cy="26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DNA is negatively charged (phosphate groups: net charge of -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Molar mass of each nucleotide is relatively consistent: Same charge-to-mass rati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Differences? DNA fragments have different lengths (number o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nucleotide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8" name="Picture 3" descr="dna_strand.jpg"/>
          <p:cNvPicPr/>
          <p:nvPr/>
        </p:nvPicPr>
        <p:blipFill>
          <a:blip r:embed="rId2"/>
          <a:stretch/>
        </p:blipFill>
        <p:spPr>
          <a:xfrm>
            <a:off x="4548240" y="4572000"/>
            <a:ext cx="391932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n-CA" sz="3200" spc="-1" strike="noStrike">
                <a:solidFill>
                  <a:srgbClr val="ffffff"/>
                </a:solidFill>
                <a:latin typeface="Calibri"/>
              </a:rPr>
              <a:t>Restricition Endonuclease digestion</a:t>
            </a: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: different DNA fragment length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Fragments migrate through gel solution at a rate inversely proportional to (log) siz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Solution of different sized fragments placed in well #1 along with a glycerol containing loading dy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466120" cy="11588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Gel is loaded while submerged in a buffer solu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A direct negatively charged current is placed at one well, positive current at opposing well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The negatively charged DNA will migrate towards the positively charged electrod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Electrical current can be turned off before small fragments reach the end of the gel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46836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DNA fragments are visible once gel is stain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Commonly used stain: </a:t>
            </a:r>
            <a:r>
              <a:rPr b="0" i="1" lang="en-CA" sz="3200" spc="-1" strike="noStrike">
                <a:solidFill>
                  <a:srgbClr val="ffffff"/>
                </a:solidFill>
                <a:latin typeface="Calibri"/>
              </a:rPr>
              <a:t>Ethidium Bromid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alibri"/>
              </a:rPr>
              <a:t>Flat molecule that fluoresces under UV ligh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alibri"/>
              </a:rPr>
              <a:t>When inserted among nucleotides, bands of DNA are visualiz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Molecular marker (fragments of known size) is used to determine the sizes of the new DNA fragme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5" name="Picture 3" descr="G210564-DNA_fragments_in_gel_stained_with_Ethidium_Bromide-SPL.jpg"/>
          <p:cNvPicPr/>
          <p:nvPr/>
        </p:nvPicPr>
        <p:blipFill>
          <a:blip r:embed="rId2"/>
          <a:stretch/>
        </p:blipFill>
        <p:spPr>
          <a:xfrm>
            <a:off x="3924360" y="3500280"/>
            <a:ext cx="2232000" cy="1516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To determine/estimate the size of the desired DNA frag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Compare fragment sizes from different sour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Excise out desired DNA fragment out of g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wiziq.com/tutorial/22367-Gel-Electrophoresis-Anim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02:03:05Z</dcterms:created>
  <dc:creator>Arlanna</dc:creator>
  <dc:description/>
  <dc:language>en-US</dc:language>
  <cp:lastModifiedBy>Arlanna</cp:lastModifiedBy>
  <dcterms:modified xsi:type="dcterms:W3CDTF">2011-04-12T03:50:36Z</dcterms:modified>
  <cp:revision>54</cp:revision>
  <dc:subject/>
  <dc:title>Gel 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67681033</vt:lpwstr>
  </property>
</Properties>
</file>